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02315"/>
        <c:axId val="50832014"/>
      </c:barChart>
      <c:catAx>
        <c:axId val="66902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32014"/>
        <c:crosses val="autoZero"/>
        <c:auto val="1"/>
        <c:lblAlgn val="ctr"/>
        <c:lblOffset val="100"/>
        <c:noMultiLvlLbl val="0"/>
      </c:catAx>
      <c:valAx>
        <c:axId val="50832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02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CED-6D0F-4E90-96F2-077CA714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2F1-FFF7-4C1C-AA68-D0A2CE64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2D2-C5B4-4ED3-B13E-1E2605AE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449-F10B-486C-AB65-864BD5D6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A0D-4651-4702-9955-4EE80033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729-C808-4399-AB5C-6D066B02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698-5D9D-4EA4-B07A-68114FD1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D5F-8F9D-4A0F-B985-B7875968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717-771A-4F0B-AC26-DAE88813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F4F-8C16-4038-ABB7-8964485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188-1781-4803-BF07-A8CB6F8D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2EF-58A7-4AB6-85DC-F33A9B03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D9442-2A77-4F22-B6FE-5213CE89EB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