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789013"/>
        <c:axId val="4612748"/>
      </c:barChart>
      <c:catAx>
        <c:axId val="497890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2748"/>
        <c:crosses val="autoZero"/>
        <c:auto val="1"/>
        <c:lblAlgn val="ctr"/>
        <c:lblOffset val="100"/>
        <c:noMultiLvlLbl val="0"/>
      </c:catAx>
      <c:valAx>
        <c:axId val="46127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890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1394-20FA-455D-BC8C-D62232B1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7D86-B2B1-4D45-BE64-0AE073B4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4DC3-A56B-4DCA-AC97-D946F240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2778-D73D-46E8-BF60-E1DFBB07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9D57-26F7-4DCC-96BE-053D0B53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AAAD-5010-485A-AFBA-222799DF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2CC0-DAFC-421E-B080-6C6CE60F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E6CF-B6D8-4F3E-98F6-A220A891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345-EFB0-4A15-9244-08D5460D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653A-9C7C-44BD-B6D1-10CC356A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4805-01CC-486C-BB57-881409E7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83C6-BC1C-4684-A98B-84C0906F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14CDB-127E-4880-B4B5-87E364A0AD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