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27655"/>
        <c:axId val="29695559"/>
      </c:barChart>
      <c:catAx>
        <c:axId val="74127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95559"/>
        <c:crosses val="autoZero"/>
        <c:auto val="1"/>
        <c:lblAlgn val="ctr"/>
        <c:lblOffset val="100"/>
        <c:noMultiLvlLbl val="0"/>
      </c:catAx>
      <c:valAx>
        <c:axId val="29695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27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C8B-570F-4C21-B51E-37B9EB01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FCB-F8E6-4A54-B154-3521EA67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03D-9769-42C7-B599-77B41776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64F-A00F-4DB1-9B26-F4806CD0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FEC-AF11-4F0E-A5A3-CD8EED55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F01-CCFA-4DA7-9E63-1AF129B7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AB6-ABDD-44B1-B901-4B758D99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F83-490C-4D97-9EC4-C2BD89D4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595-7B39-4EDF-9505-EFED1D2A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CCC-D5AF-4D0D-B749-C55139B4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11C-84C3-43E1-B1FC-370240A3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798-7052-4AE7-B0AE-F4B83D6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818DB-8689-4421-AC84-6CBA1FBD78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